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1.wmf" ContentType="image/x-wmf"/>
  <Override PartName="/ppt/media/image3.png" ContentType="image/png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BD27-779A-44BA-B820-6ABD0A37C0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0793-295B-4410-9707-774C80E63B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E716-1083-4939-909B-250F4C4594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316D-BF45-4246-87FA-02EDC76CE0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474F-A1D4-4EFA-90FD-6469A2823E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26B-F993-4787-9692-51D05DC9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EC8-2868-4F88-88D1-0E196AA1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905-D86D-476E-8125-2D8CEC30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4CE-BA24-40EA-9FFC-E3EE0F7E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94D-FF20-4902-BAF9-8425960B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8E9-6490-48EC-A3FD-815853CD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CAA-164B-46C8-8A25-0638531C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1D1-7801-4267-849B-04C8AEBC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F5C-7FB1-41A7-B85F-D5D97440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416-463C-46EB-ADF0-6BDFDD34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693-0633-4D45-A8CC-B40933F3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A7F-A435-46FF-A982-284ED928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F9BC-7B77-4B72-B7EA-BA8FC7A695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3.xml"/><Relationship Id="rId5" Type="http://schemas.openxmlformats.org/officeDocument/2006/relationships/slide" Target="slide16.xm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1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2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2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24.wmf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040920" y="2851560"/>
            <a:ext cx="257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4.1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平方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四章 实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3">
            <a:hlinkClick r:id="rId4" action="ppaction://hlinksldjump"/>
          </p:cNvPr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H_SubTitle_4">
            <a:hlinkClick r:id="rId5" action="ppaction://hlinksldjump"/>
          </p:cNvPr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7" name="MH_Other_7" descr=""/>
            <p:cNvPicPr/>
            <p:nvPr/>
          </p:nvPicPr>
          <p:blipFill>
            <a:blip r:embed="rId6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71" name="MH_Other_9" descr=""/>
            <p:cNvPicPr/>
            <p:nvPr/>
          </p:nvPicPr>
          <p:blipFill>
            <a:blip r:embed="rId7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H_Other_11" descr=""/>
          <p:cNvPicPr/>
          <p:nvPr/>
        </p:nvPicPr>
        <p:blipFill>
          <a:blip r:embed="rId8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081600" y="3859560"/>
            <a:ext cx="292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第</a:t>
            </a: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课时 平方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6147"/>
          <p:cNvGrpSpPr/>
          <p:nvPr/>
        </p:nvGrpSpPr>
        <p:grpSpPr>
          <a:xfrm>
            <a:off x="325440" y="246240"/>
            <a:ext cx="2233440" cy="808200"/>
            <a:chOff x="325440" y="246240"/>
            <a:chExt cx="2233440" cy="808200"/>
          </a:xfrm>
        </p:grpSpPr>
        <p:sp>
          <p:nvSpPr>
            <p:cNvPr id="188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6151"/>
            <p:cNvSpPr/>
            <p:nvPr/>
          </p:nvSpPr>
          <p:spPr>
            <a:xfrm>
              <a:off x="123912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开平方运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5"/>
          <p:cNvSpPr/>
          <p:nvPr/>
        </p:nvSpPr>
        <p:spPr>
          <a:xfrm>
            <a:off x="441720" y="1125360"/>
            <a:ext cx="10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开平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1763640" y="119700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一个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根的运算，叫做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开平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2"/>
          <p:cNvSpPr/>
          <p:nvPr/>
        </p:nvSpPr>
        <p:spPr>
          <a:xfrm>
            <a:off x="5508720" y="1989000"/>
            <a:ext cx="863640" cy="396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53"/>
          <p:cNvSpPr/>
          <p:nvPr/>
        </p:nvSpPr>
        <p:spPr>
          <a:xfrm>
            <a:off x="7453440" y="1989000"/>
            <a:ext cx="863640" cy="396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4"/>
          <p:cNvSpPr/>
          <p:nvPr/>
        </p:nvSpPr>
        <p:spPr>
          <a:xfrm>
            <a:off x="3060720" y="1989000"/>
            <a:ext cx="863640" cy="396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5"/>
          <p:cNvSpPr/>
          <p:nvPr/>
        </p:nvSpPr>
        <p:spPr>
          <a:xfrm>
            <a:off x="971640" y="1989000"/>
            <a:ext cx="863640" cy="396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6"/>
          <p:cNvSpPr/>
          <p:nvPr/>
        </p:nvSpPr>
        <p:spPr>
          <a:xfrm>
            <a:off x="56538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7"/>
          <p:cNvSpPr/>
          <p:nvPr/>
        </p:nvSpPr>
        <p:spPr>
          <a:xfrm>
            <a:off x="5653800" y="35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5653800" y="473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9"/>
          <p:cNvSpPr/>
          <p:nvPr/>
        </p:nvSpPr>
        <p:spPr>
          <a:xfrm>
            <a:off x="7541640" y="23479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0"/>
          <p:cNvSpPr/>
          <p:nvPr/>
        </p:nvSpPr>
        <p:spPr>
          <a:xfrm>
            <a:off x="7655400" y="2851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1"/>
          <p:cNvSpPr/>
          <p:nvPr/>
        </p:nvSpPr>
        <p:spPr>
          <a:xfrm>
            <a:off x="7541640" y="350676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2"/>
          <p:cNvSpPr/>
          <p:nvPr/>
        </p:nvSpPr>
        <p:spPr>
          <a:xfrm>
            <a:off x="7655400" y="4003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3"/>
          <p:cNvSpPr/>
          <p:nvPr/>
        </p:nvSpPr>
        <p:spPr>
          <a:xfrm>
            <a:off x="7541640" y="465948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4"/>
          <p:cNvSpPr/>
          <p:nvPr/>
        </p:nvSpPr>
        <p:spPr>
          <a:xfrm>
            <a:off x="7655400" y="5156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156360" y="2492280"/>
            <a:ext cx="1440000" cy="216000"/>
            <a:chOff x="6156360" y="2492280"/>
            <a:chExt cx="1440000" cy="216000"/>
          </a:xfrm>
        </p:grpSpPr>
        <p:sp>
          <p:nvSpPr>
            <p:cNvPr id="209" name="Line 65"/>
            <p:cNvSpPr/>
            <p:nvPr/>
          </p:nvSpPr>
          <p:spPr>
            <a:xfrm flipV="1">
              <a:off x="6156360" y="2492280"/>
              <a:ext cx="1440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 rot="10800000">
              <a:off x="6156360" y="2492280"/>
              <a:ext cx="14400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156360" y="2708280"/>
            <a:ext cx="1440000" cy="360360"/>
            <a:chOff x="6156360" y="2708280"/>
            <a:chExt cx="1440000" cy="360360"/>
          </a:xfrm>
        </p:grpSpPr>
        <p:sp>
          <p:nvSpPr>
            <p:cNvPr id="212" name="Line 66"/>
            <p:cNvSpPr/>
            <p:nvPr/>
          </p:nvSpPr>
          <p:spPr>
            <a:xfrm>
              <a:off x="6156360" y="2708280"/>
              <a:ext cx="1440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6156360" y="2708280"/>
              <a:ext cx="1440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156360" y="3716280"/>
            <a:ext cx="1440000" cy="216000"/>
            <a:chOff x="6156360" y="3716280"/>
            <a:chExt cx="1440000" cy="216000"/>
          </a:xfrm>
        </p:grpSpPr>
        <p:sp>
          <p:nvSpPr>
            <p:cNvPr id="215" name="Line 67"/>
            <p:cNvSpPr/>
            <p:nvPr/>
          </p:nvSpPr>
          <p:spPr>
            <a:xfrm flipV="1">
              <a:off x="6156360" y="3716280"/>
              <a:ext cx="1440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 rot="10800000">
              <a:off x="6156360" y="3716280"/>
              <a:ext cx="14400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156360" y="3932280"/>
            <a:ext cx="1440000" cy="360360"/>
            <a:chOff x="6156360" y="3932280"/>
            <a:chExt cx="1440000" cy="360360"/>
          </a:xfrm>
        </p:grpSpPr>
        <p:sp>
          <p:nvSpPr>
            <p:cNvPr id="218" name="Line 68"/>
            <p:cNvSpPr/>
            <p:nvPr/>
          </p:nvSpPr>
          <p:spPr>
            <a:xfrm>
              <a:off x="6156360" y="3932280"/>
              <a:ext cx="1440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6156360" y="3932280"/>
              <a:ext cx="1440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156360" y="4868640"/>
            <a:ext cx="1440000" cy="215640"/>
            <a:chOff x="6156360" y="4868640"/>
            <a:chExt cx="1440000" cy="215640"/>
          </a:xfrm>
        </p:grpSpPr>
        <p:sp>
          <p:nvSpPr>
            <p:cNvPr id="221" name="Line 69"/>
            <p:cNvSpPr/>
            <p:nvPr/>
          </p:nvSpPr>
          <p:spPr>
            <a:xfrm flipV="1">
              <a:off x="6156360" y="4868640"/>
              <a:ext cx="1440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 rot="10800000">
              <a:off x="6156360" y="4868640"/>
              <a:ext cx="144000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156360" y="5084640"/>
            <a:ext cx="1440000" cy="360360"/>
            <a:chOff x="6156360" y="5084640"/>
            <a:chExt cx="1440000" cy="360360"/>
          </a:xfrm>
        </p:grpSpPr>
        <p:sp>
          <p:nvSpPr>
            <p:cNvPr id="224" name="Line 70"/>
            <p:cNvSpPr/>
            <p:nvPr/>
          </p:nvSpPr>
          <p:spPr>
            <a:xfrm>
              <a:off x="6156360" y="5084640"/>
              <a:ext cx="1440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6156360" y="5084640"/>
              <a:ext cx="1440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1"/>
          <p:cNvSpPr/>
          <p:nvPr/>
        </p:nvSpPr>
        <p:spPr>
          <a:xfrm>
            <a:off x="327096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2"/>
          <p:cNvSpPr/>
          <p:nvPr/>
        </p:nvSpPr>
        <p:spPr>
          <a:xfrm>
            <a:off x="3270960" y="3795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3"/>
          <p:cNvSpPr/>
          <p:nvPr/>
        </p:nvSpPr>
        <p:spPr>
          <a:xfrm>
            <a:off x="3270960" y="4948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4"/>
          <p:cNvSpPr/>
          <p:nvPr/>
        </p:nvSpPr>
        <p:spPr>
          <a:xfrm>
            <a:off x="1045800" y="234936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5"/>
          <p:cNvSpPr/>
          <p:nvPr/>
        </p:nvSpPr>
        <p:spPr>
          <a:xfrm>
            <a:off x="115956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6"/>
          <p:cNvSpPr/>
          <p:nvPr/>
        </p:nvSpPr>
        <p:spPr>
          <a:xfrm>
            <a:off x="1045800" y="35082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7"/>
          <p:cNvSpPr/>
          <p:nvPr/>
        </p:nvSpPr>
        <p:spPr>
          <a:xfrm>
            <a:off x="1159560" y="400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8"/>
          <p:cNvSpPr/>
          <p:nvPr/>
        </p:nvSpPr>
        <p:spPr>
          <a:xfrm>
            <a:off x="1045800" y="46609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9"/>
          <p:cNvSpPr/>
          <p:nvPr/>
        </p:nvSpPr>
        <p:spPr>
          <a:xfrm>
            <a:off x="1116720" y="5157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620720" y="2637000"/>
            <a:ext cx="1727280" cy="287280"/>
            <a:chOff x="1620720" y="2637000"/>
            <a:chExt cx="1727280" cy="287280"/>
          </a:xfrm>
        </p:grpSpPr>
        <p:sp>
          <p:nvSpPr>
            <p:cNvPr id="236" name="Line 82"/>
            <p:cNvSpPr/>
            <p:nvPr/>
          </p:nvSpPr>
          <p:spPr>
            <a:xfrm>
              <a:off x="1620720" y="2637000"/>
              <a:ext cx="1727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1620720" y="2637000"/>
              <a:ext cx="172728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619280" y="2997000"/>
            <a:ext cx="1727280" cy="215640"/>
            <a:chOff x="1619280" y="2997000"/>
            <a:chExt cx="1727280" cy="215640"/>
          </a:xfrm>
        </p:grpSpPr>
        <p:sp>
          <p:nvSpPr>
            <p:cNvPr id="239" name="Line 83"/>
            <p:cNvSpPr/>
            <p:nvPr/>
          </p:nvSpPr>
          <p:spPr>
            <a:xfrm flipV="1">
              <a:off x="1619280" y="2997000"/>
              <a:ext cx="17272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 rot="10800000">
              <a:off x="1619280" y="2997000"/>
              <a:ext cx="172728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692360" y="3860640"/>
            <a:ext cx="1655640" cy="216000"/>
            <a:chOff x="1692360" y="3860640"/>
            <a:chExt cx="1655640" cy="216000"/>
          </a:xfrm>
        </p:grpSpPr>
        <p:sp>
          <p:nvSpPr>
            <p:cNvPr id="242" name="Line 84"/>
            <p:cNvSpPr/>
            <p:nvPr/>
          </p:nvSpPr>
          <p:spPr>
            <a:xfrm>
              <a:off x="1692360" y="3860640"/>
              <a:ext cx="1655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1692360" y="3860640"/>
              <a:ext cx="1655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692000" y="4149720"/>
            <a:ext cx="1656000" cy="216000"/>
            <a:chOff x="1692000" y="4149720"/>
            <a:chExt cx="1656000" cy="216000"/>
          </a:xfrm>
        </p:grpSpPr>
        <p:sp>
          <p:nvSpPr>
            <p:cNvPr id="245" name="Line 85"/>
            <p:cNvSpPr/>
            <p:nvPr/>
          </p:nvSpPr>
          <p:spPr>
            <a:xfrm flipV="1">
              <a:off x="1692360" y="4149720"/>
              <a:ext cx="1655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 rot="10800000">
              <a:off x="1692000" y="4149720"/>
              <a:ext cx="1655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620720" y="4941720"/>
            <a:ext cx="1727280" cy="287640"/>
            <a:chOff x="1620720" y="4941720"/>
            <a:chExt cx="1727280" cy="287640"/>
          </a:xfrm>
        </p:grpSpPr>
        <p:sp>
          <p:nvSpPr>
            <p:cNvPr id="248" name="Line 86"/>
            <p:cNvSpPr/>
            <p:nvPr/>
          </p:nvSpPr>
          <p:spPr>
            <a:xfrm>
              <a:off x="1620720" y="4941720"/>
              <a:ext cx="172728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1620720" y="4941720"/>
              <a:ext cx="1727280" cy="2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620720" y="5302080"/>
            <a:ext cx="1727280" cy="216000"/>
            <a:chOff x="1620720" y="5302080"/>
            <a:chExt cx="1727280" cy="216000"/>
          </a:xfrm>
        </p:grpSpPr>
        <p:sp>
          <p:nvSpPr>
            <p:cNvPr id="251" name="Line 87"/>
            <p:cNvSpPr/>
            <p:nvPr/>
          </p:nvSpPr>
          <p:spPr>
            <a:xfrm flipV="1">
              <a:off x="1620720" y="5302080"/>
              <a:ext cx="172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 rot="10800000">
              <a:off x="1620720" y="5302080"/>
              <a:ext cx="172728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88"/>
          <p:cNvSpPr/>
          <p:nvPr/>
        </p:nvSpPr>
        <p:spPr>
          <a:xfrm>
            <a:off x="6411240" y="1700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开平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9"/>
          <p:cNvSpPr/>
          <p:nvPr/>
        </p:nvSpPr>
        <p:spPr>
          <a:xfrm>
            <a:off x="2030040" y="17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平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1"/>
          <p:cNvSpPr/>
          <p:nvPr/>
        </p:nvSpPr>
        <p:spPr>
          <a:xfrm>
            <a:off x="755640" y="615456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9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对象 1"/>
          <p:cNvGraphicFramePr/>
          <p:nvPr/>
        </p:nvGraphicFramePr>
        <p:xfrm>
          <a:off x="1406520" y="2133720"/>
          <a:ext cx="727200" cy="7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6520" y="2133720"/>
                    <a:ext cx="7272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矩形 2"/>
          <p:cNvSpPr/>
          <p:nvPr/>
        </p:nvSpPr>
        <p:spPr>
          <a:xfrm>
            <a:off x="1047600" y="2060640"/>
            <a:ext cx="14004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直接箭头连接符 3"/>
          <p:cNvCxnSpPr/>
          <p:nvPr/>
        </p:nvCxnSpPr>
        <p:spPr>
          <a:xfrm>
            <a:off x="469800" y="2636640"/>
            <a:ext cx="8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0" name="直接箭头连接符 4"/>
          <p:cNvCxnSpPr/>
          <p:nvPr/>
        </p:nvCxnSpPr>
        <p:spPr>
          <a:xfrm flipH="1">
            <a:off x="2486880" y="285228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1" name="直接箭头连接符 5"/>
          <p:cNvCxnSpPr/>
          <p:nvPr/>
        </p:nvCxnSpPr>
        <p:spPr>
          <a:xfrm flipV="1">
            <a:off x="5651280" y="2348640"/>
            <a:ext cx="1369080" cy="39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2" name="直接箭头连接符 6"/>
          <p:cNvCxnSpPr/>
          <p:nvPr/>
        </p:nvCxnSpPr>
        <p:spPr>
          <a:xfrm flipV="1">
            <a:off x="1695240" y="2852280"/>
            <a:ext cx="1080" cy="10087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3" name="直接箭头连接符 7"/>
          <p:cNvCxnSpPr/>
          <p:nvPr/>
        </p:nvCxnSpPr>
        <p:spPr>
          <a:xfrm flipH="1">
            <a:off x="2126880" y="2349000"/>
            <a:ext cx="792720" cy="39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64" name="矩形 8"/>
          <p:cNvSpPr/>
          <p:nvPr/>
        </p:nvSpPr>
        <p:spPr>
          <a:xfrm>
            <a:off x="6227640" y="1989000"/>
            <a:ext cx="14004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对象 9"/>
          <p:cNvGraphicFramePr/>
          <p:nvPr/>
        </p:nvGraphicFramePr>
        <p:xfrm>
          <a:off x="6515280" y="2276640"/>
          <a:ext cx="823680" cy="57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对象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5280" y="2276640"/>
                    <a:ext cx="8236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对象 10"/>
          <p:cNvGraphicFramePr/>
          <p:nvPr/>
        </p:nvGraphicFramePr>
        <p:xfrm>
          <a:off x="4498920" y="2637000"/>
          <a:ext cx="1095480" cy="428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8" name="对象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8920" y="2637000"/>
                    <a:ext cx="109548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69" name="直接箭头连接符 11"/>
          <p:cNvCxnSpPr/>
          <p:nvPr/>
        </p:nvCxnSpPr>
        <p:spPr>
          <a:xfrm flipV="1">
            <a:off x="6875280" y="3068280"/>
            <a:ext cx="1080" cy="650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70" name="直接箭头连接符 12"/>
          <p:cNvCxnSpPr/>
          <p:nvPr/>
        </p:nvCxnSpPr>
        <p:spPr>
          <a:xfrm>
            <a:off x="5651640" y="285228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71" name="直接箭头连接符 13"/>
          <p:cNvCxnSpPr/>
          <p:nvPr/>
        </p:nvCxnSpPr>
        <p:spPr>
          <a:xfrm flipH="1">
            <a:off x="7235280" y="2636640"/>
            <a:ext cx="937080" cy="54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72" name="文本框 21"/>
          <p:cNvSpPr/>
          <p:nvPr/>
        </p:nvSpPr>
        <p:spPr>
          <a:xfrm>
            <a:off x="36360" y="2276640"/>
            <a:ext cx="7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22"/>
          <p:cNvSpPr/>
          <p:nvPr/>
        </p:nvSpPr>
        <p:spPr>
          <a:xfrm>
            <a:off x="2989440" y="2133720"/>
            <a:ext cx="9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3"/>
          <p:cNvSpPr/>
          <p:nvPr/>
        </p:nvSpPr>
        <p:spPr>
          <a:xfrm>
            <a:off x="3132000" y="263700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=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4"/>
          <p:cNvSpPr/>
          <p:nvPr/>
        </p:nvSpPr>
        <p:spPr>
          <a:xfrm>
            <a:off x="828720" y="3860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幂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平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5"/>
          <p:cNvSpPr/>
          <p:nvPr/>
        </p:nvSpPr>
        <p:spPr>
          <a:xfrm>
            <a:off x="4859280" y="2060640"/>
            <a:ext cx="11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26"/>
          <p:cNvSpPr/>
          <p:nvPr/>
        </p:nvSpPr>
        <p:spPr>
          <a:xfrm>
            <a:off x="2340000" y="31399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7"/>
          <p:cNvSpPr/>
          <p:nvPr/>
        </p:nvSpPr>
        <p:spPr>
          <a:xfrm>
            <a:off x="4213080" y="31399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28"/>
          <p:cNvSpPr/>
          <p:nvPr/>
        </p:nvSpPr>
        <p:spPr>
          <a:xfrm>
            <a:off x="6067440" y="391644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9"/>
          <p:cNvSpPr/>
          <p:nvPr/>
        </p:nvSpPr>
        <p:spPr>
          <a:xfrm>
            <a:off x="8101080" y="2276640"/>
            <a:ext cx="10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被开方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2"/>
          <p:cNvSpPr/>
          <p:nvPr/>
        </p:nvSpPr>
        <p:spPr>
          <a:xfrm>
            <a:off x="1403280" y="472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平方运算与开平方运算互为逆运算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31"/>
          <p:cNvSpPr/>
          <p:nvPr/>
        </p:nvSpPr>
        <p:spPr>
          <a:xfrm>
            <a:off x="2858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468360" y="1268280"/>
            <a:ext cx="81961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</a:t>
            </a:r>
            <a:r>
              <a:rPr b="1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房间的面积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.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方米，房间地面恰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块相同的正方形地砖铺成，问每块地砖的边长是多少？</a:t>
            </a: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969840" y="2994120"/>
            <a:ext cx="770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每块地砖的边长为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题意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114560" y="486900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每块的地砖的边长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米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对象 1"/>
          <p:cNvGraphicFramePr/>
          <p:nvPr/>
        </p:nvGraphicFramePr>
        <p:xfrm>
          <a:off x="2482920" y="3573360"/>
          <a:ext cx="5376960" cy="102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2920" y="3573360"/>
                    <a:ext cx="537696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22"/>
          <p:cNvSpPr/>
          <p:nvPr/>
        </p:nvSpPr>
        <p:spPr>
          <a:xfrm>
            <a:off x="466560" y="2852640"/>
            <a:ext cx="9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"/>
          <p:cNvSpPr/>
          <p:nvPr/>
        </p:nvSpPr>
        <p:spPr>
          <a:xfrm>
            <a:off x="539640" y="692280"/>
            <a:ext cx="8066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个数有平方根吗？如果有，写出它的平方根，如果没有，说明理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3995640" y="1700280"/>
            <a:ext cx="9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6"/>
          <p:cNvGrpSpPr/>
          <p:nvPr/>
        </p:nvGrpSpPr>
        <p:grpSpPr>
          <a:xfrm>
            <a:off x="682560" y="1773360"/>
            <a:ext cx="3938760" cy="3295080"/>
            <a:chOff x="682560" y="1773360"/>
            <a:chExt cx="3938760" cy="3295080"/>
          </a:xfrm>
        </p:grpSpPr>
        <p:sp>
          <p:nvSpPr>
            <p:cNvPr id="294" name="文本框 2"/>
            <p:cNvSpPr/>
            <p:nvPr/>
          </p:nvSpPr>
          <p:spPr>
            <a:xfrm>
              <a:off x="682560" y="1773360"/>
              <a:ext cx="3938760" cy="32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4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；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；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          ；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5" name="对象 3"/>
            <p:cNvGraphicFramePr/>
            <p:nvPr/>
          </p:nvGraphicFramePr>
          <p:xfrm>
            <a:off x="1474920" y="2492280"/>
            <a:ext cx="551160" cy="742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6" name="对象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74920" y="2492280"/>
                      <a:ext cx="551160" cy="74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对象 4"/>
            <p:cNvGraphicFramePr/>
            <p:nvPr/>
          </p:nvGraphicFramePr>
          <p:xfrm>
            <a:off x="1474560" y="3716280"/>
            <a:ext cx="686520" cy="705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8" name="对象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74560" y="3716280"/>
                      <a:ext cx="686520" cy="70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对象 5"/>
            <p:cNvGraphicFramePr/>
            <p:nvPr/>
          </p:nvGraphicFramePr>
          <p:xfrm>
            <a:off x="1402560" y="4435920"/>
            <a:ext cx="531000" cy="632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0" name="对象 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02560" y="4435920"/>
                      <a:ext cx="531000" cy="63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文本框 8"/>
          <p:cNvSpPr/>
          <p:nvPr/>
        </p:nvSpPr>
        <p:spPr>
          <a:xfrm>
            <a:off x="4643280" y="184464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有平方根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±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10"/>
          <p:cNvGrpSpPr/>
          <p:nvPr/>
        </p:nvGrpSpPr>
        <p:grpSpPr>
          <a:xfrm>
            <a:off x="4643280" y="2421000"/>
            <a:ext cx="4172040" cy="887400"/>
            <a:chOff x="4643280" y="2421000"/>
            <a:chExt cx="4172040" cy="887400"/>
          </a:xfrm>
        </p:grpSpPr>
        <p:sp>
          <p:nvSpPr>
            <p:cNvPr id="303" name="文本框 7"/>
            <p:cNvSpPr/>
            <p:nvPr/>
          </p:nvSpPr>
          <p:spPr>
            <a:xfrm>
              <a:off x="4643280" y="2565000"/>
              <a:ext cx="417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有平方根，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±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4" name="对象 9"/>
            <p:cNvGraphicFramePr/>
            <p:nvPr/>
          </p:nvGraphicFramePr>
          <p:xfrm>
            <a:off x="7379640" y="2421000"/>
            <a:ext cx="343440" cy="887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05" name="对象 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379640" y="2421000"/>
                      <a:ext cx="34344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6" name="文本框 11"/>
          <p:cNvSpPr/>
          <p:nvPr/>
        </p:nvSpPr>
        <p:spPr>
          <a:xfrm>
            <a:off x="4643280" y="314172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有平方根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12"/>
          <p:cNvGrpSpPr/>
          <p:nvPr/>
        </p:nvGrpSpPr>
        <p:grpSpPr>
          <a:xfrm>
            <a:off x="4643280" y="3718080"/>
            <a:ext cx="4172040" cy="887400"/>
            <a:chOff x="4643280" y="3718080"/>
            <a:chExt cx="4172040" cy="887400"/>
          </a:xfrm>
        </p:grpSpPr>
        <p:sp>
          <p:nvSpPr>
            <p:cNvPr id="308" name="文本框 13"/>
            <p:cNvSpPr/>
            <p:nvPr/>
          </p:nvSpPr>
          <p:spPr>
            <a:xfrm>
              <a:off x="4643280" y="3862080"/>
              <a:ext cx="417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有平方根，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±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9" name="对象 14"/>
            <p:cNvGraphicFramePr/>
            <p:nvPr/>
          </p:nvGraphicFramePr>
          <p:xfrm>
            <a:off x="7379640" y="3718080"/>
            <a:ext cx="343440" cy="887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10" name="对象 1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79640" y="3718080"/>
                      <a:ext cx="34344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1" name="文本框 15"/>
          <p:cNvSpPr/>
          <p:nvPr/>
        </p:nvSpPr>
        <p:spPr>
          <a:xfrm>
            <a:off x="4572000" y="4581360"/>
            <a:ext cx="4172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没有平方根，负数没有平方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1"/>
          <p:cNvSpPr/>
          <p:nvPr/>
        </p:nvSpPr>
        <p:spPr>
          <a:xfrm>
            <a:off x="539640" y="90792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一个数的两个平方根时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3,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5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这个数是多少？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466560" y="1557360"/>
            <a:ext cx="9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2"/>
          <p:cNvSpPr/>
          <p:nvPr/>
        </p:nvSpPr>
        <p:spPr>
          <a:xfrm>
            <a:off x="395280" y="2349360"/>
            <a:ext cx="81644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一个数正数的两个平方根互为相反数，所以（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0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3=7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5=-7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这个数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7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99"/>
          <p:cNvSpPr/>
          <p:nvPr/>
        </p:nvSpPr>
        <p:spPr>
          <a:xfrm>
            <a:off x="684360" y="692280"/>
            <a:ext cx="507996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求下列各式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36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−49 = 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9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) =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5"/>
          <p:cNvSpPr/>
          <p:nvPr/>
        </p:nvSpPr>
        <p:spPr>
          <a:xfrm>
            <a:off x="1569600" y="198900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±1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7"/>
          <p:cNvGrpSpPr/>
          <p:nvPr/>
        </p:nvGrpSpPr>
        <p:grpSpPr>
          <a:xfrm>
            <a:off x="1619280" y="3068640"/>
            <a:ext cx="1166400" cy="669960"/>
            <a:chOff x="1619280" y="3068640"/>
            <a:chExt cx="1166400" cy="669960"/>
          </a:xfrm>
        </p:grpSpPr>
        <p:sp>
          <p:nvSpPr>
            <p:cNvPr id="318" name="文本框 1"/>
            <p:cNvSpPr/>
            <p:nvPr/>
          </p:nvSpPr>
          <p:spPr>
            <a:xfrm>
              <a:off x="1619280" y="3212640"/>
              <a:ext cx="98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=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9" name="对象 6"/>
            <p:cNvGraphicFramePr/>
            <p:nvPr/>
          </p:nvGraphicFramePr>
          <p:xfrm>
            <a:off x="2440440" y="3068640"/>
            <a:ext cx="345240" cy="66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0" name="对象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40440" y="3068640"/>
                      <a:ext cx="34524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21" name="组合 9"/>
          <p:cNvGrpSpPr/>
          <p:nvPr/>
        </p:nvGrpSpPr>
        <p:grpSpPr>
          <a:xfrm>
            <a:off x="1547640" y="4292640"/>
            <a:ext cx="1341720" cy="780840"/>
            <a:chOff x="1547640" y="4292640"/>
            <a:chExt cx="1341720" cy="780840"/>
          </a:xfrm>
        </p:grpSpPr>
        <p:sp>
          <p:nvSpPr>
            <p:cNvPr id="322" name="文本框 100"/>
            <p:cNvSpPr/>
            <p:nvPr/>
          </p:nvSpPr>
          <p:spPr>
            <a:xfrm>
              <a:off x="1547640" y="4436640"/>
              <a:ext cx="13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=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3" name="对象 8"/>
            <p:cNvGraphicFramePr/>
            <p:nvPr/>
          </p:nvGraphicFramePr>
          <p:xfrm>
            <a:off x="2307240" y="4292640"/>
            <a:ext cx="320400" cy="780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24" name="对象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07240" y="4292640"/>
                      <a:ext cx="320400" cy="78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724680" y="620640"/>
            <a:ext cx="16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平方根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2"/>
          <p:cNvGrpSpPr/>
          <p:nvPr/>
        </p:nvGrpSpPr>
        <p:grpSpPr>
          <a:xfrm>
            <a:off x="395280" y="1052640"/>
            <a:ext cx="7485120" cy="1191240"/>
            <a:chOff x="395280" y="1052640"/>
            <a:chExt cx="7485120" cy="1191240"/>
          </a:xfrm>
        </p:grpSpPr>
        <p:sp>
          <p:nvSpPr>
            <p:cNvPr id="328" name="文本框 1"/>
            <p:cNvSpPr/>
            <p:nvPr/>
          </p:nvSpPr>
          <p:spPr>
            <a:xfrm>
              <a:off x="395280" y="1052640"/>
              <a:ext cx="748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般地，如果一个数的平方等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那么这个数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平方根或二次方根．这就是说，如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那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平方根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9" name="对象 8196"/>
            <p:cNvGraphicFramePr/>
            <p:nvPr/>
          </p:nvGraphicFramePr>
          <p:xfrm>
            <a:off x="5723640" y="1773000"/>
            <a:ext cx="850680" cy="45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0" name="对象 819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3640" y="1773000"/>
                      <a:ext cx="850680" cy="45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1" name="TextBox 6"/>
          <p:cNvSpPr/>
          <p:nvPr/>
        </p:nvSpPr>
        <p:spPr>
          <a:xfrm>
            <a:off x="760320" y="29894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平方根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3"/>
          <p:cNvSpPr/>
          <p:nvPr/>
        </p:nvSpPr>
        <p:spPr>
          <a:xfrm>
            <a:off x="395280" y="3530520"/>
            <a:ext cx="77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一个正数有两个平方根，它们互为相反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4"/>
          <p:cNvSpPr/>
          <p:nvPr/>
        </p:nvSpPr>
        <p:spPr>
          <a:xfrm>
            <a:off x="395280" y="4221000"/>
            <a:ext cx="77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有两平方根，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身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5"/>
          <p:cNvSpPr/>
          <p:nvPr/>
        </p:nvSpPr>
        <p:spPr>
          <a:xfrm>
            <a:off x="395280" y="4797360"/>
            <a:ext cx="77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负数没有平方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585360" y="5143680"/>
            <a:ext cx="10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开平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0"/>
          <p:cNvSpPr/>
          <p:nvPr/>
        </p:nvSpPr>
        <p:spPr>
          <a:xfrm>
            <a:off x="395280" y="587700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一个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根的运算，叫做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开平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8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8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9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80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矩形 11"/>
          <p:cNvSpPr/>
          <p:nvPr/>
        </p:nvSpPr>
        <p:spPr>
          <a:xfrm>
            <a:off x="539640" y="213372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平方根的概念及表示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并掌握平方根的性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开平方运算，体会数学中的互逆思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景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324000" y="1628640"/>
            <a:ext cx="779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学校要举行美术作品比赛，小鸥想裁出一块面积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正方形画布，画上自己的得意之作参加比赛，这块正方形画布的边长应取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2"/>
          <a:stretch/>
        </p:blipFill>
        <p:spPr>
          <a:xfrm>
            <a:off x="6156360" y="3068640"/>
            <a:ext cx="2590920" cy="2592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324000" y="3357720"/>
            <a:ext cx="83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你说一说解决问题的思路．</a:t>
            </a:r>
            <a:r>
              <a:rPr b="0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2"/>
          <p:cNvSpPr/>
          <p:nvPr/>
        </p:nvSpPr>
        <p:spPr>
          <a:xfrm>
            <a:off x="324000" y="620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想一想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正方形的面积如下，请填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71640" y="1844640"/>
          <a:ext cx="7500960" cy="2286000"/>
        </p:xfrm>
        <a:graphic>
          <a:graphicData uri="http://schemas.openxmlformats.org/drawingml/2006/table">
            <a:tbl>
              <a:tblPr/>
              <a:tblGrid>
                <a:gridCol w="1425600"/>
                <a:gridCol w="1119240"/>
                <a:gridCol w="1238040"/>
                <a:gridCol w="1238400"/>
                <a:gridCol w="1239840"/>
                <a:gridCol w="1239840"/>
              </a:tblGrid>
              <a:tr h="11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正方形的面积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dm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正方形的边长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d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14" descr=""/>
          <p:cNvPicPr/>
          <p:nvPr/>
        </p:nvPicPr>
        <p:blipFill>
          <a:blip r:embed="rId2"/>
          <a:stretch/>
        </p:blipFill>
        <p:spPr>
          <a:xfrm>
            <a:off x="7667640" y="2205000"/>
            <a:ext cx="431640" cy="77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对象 5147"/>
          <p:cNvGraphicFramePr/>
          <p:nvPr/>
        </p:nvGraphicFramePr>
        <p:xfrm>
          <a:off x="3073320" y="3549600"/>
          <a:ext cx="14292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对象 51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3320" y="3549600"/>
                    <a:ext cx="1429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对象 5148"/>
          <p:cNvGraphicFramePr/>
          <p:nvPr/>
        </p:nvGraphicFramePr>
        <p:xfrm>
          <a:off x="4145040" y="3524400"/>
          <a:ext cx="212760" cy="35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对象 51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5040" y="3524400"/>
                    <a:ext cx="2127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对象 5149"/>
          <p:cNvGraphicFramePr/>
          <p:nvPr/>
        </p:nvGraphicFramePr>
        <p:xfrm>
          <a:off x="5502240" y="3557520"/>
          <a:ext cx="214200" cy="31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对象 51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2240" y="3557520"/>
                    <a:ext cx="2142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对象 5150"/>
          <p:cNvGraphicFramePr/>
          <p:nvPr/>
        </p:nvGraphicFramePr>
        <p:xfrm>
          <a:off x="6716880" y="3559320"/>
          <a:ext cx="212400" cy="32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对象 515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16880" y="3559320"/>
                    <a:ext cx="2124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对象 5151"/>
          <p:cNvGraphicFramePr/>
          <p:nvPr/>
        </p:nvGraphicFramePr>
        <p:xfrm>
          <a:off x="7740720" y="3284640"/>
          <a:ext cx="366480" cy="77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" name="对象 515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40720" y="3284640"/>
                    <a:ext cx="3664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文本框 1"/>
          <p:cNvSpPr/>
          <p:nvPr/>
        </p:nvSpPr>
        <p:spPr>
          <a:xfrm>
            <a:off x="1765080" y="44370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能指出它们的共同特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"/>
          <p:cNvSpPr/>
          <p:nvPr/>
        </p:nvSpPr>
        <p:spPr>
          <a:xfrm>
            <a:off x="3409200" y="508644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都是已知一个正数的平方，求这个正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6147"/>
          <p:cNvGrpSpPr/>
          <p:nvPr/>
        </p:nvGrpSpPr>
        <p:grpSpPr>
          <a:xfrm>
            <a:off x="325440" y="246240"/>
            <a:ext cx="3298680" cy="808200"/>
            <a:chOff x="325440" y="246240"/>
            <a:chExt cx="3298680" cy="808200"/>
          </a:xfrm>
        </p:grpSpPr>
        <p:sp>
          <p:nvSpPr>
            <p:cNvPr id="106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6151"/>
            <p:cNvSpPr/>
            <p:nvPr/>
          </p:nvSpPr>
          <p:spPr>
            <a:xfrm>
              <a:off x="1523160" y="520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平方根的概念及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"/>
          <p:cNvSpPr/>
          <p:nvPr/>
        </p:nvSpPr>
        <p:spPr>
          <a:xfrm>
            <a:off x="250920" y="1339920"/>
            <a:ext cx="11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 </a:t>
            </a:r>
            <a:r>
              <a:rPr b="0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5280" y="28558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内容占位符 2"/>
          <p:cNvSpPr/>
          <p:nvPr/>
        </p:nvSpPr>
        <p:spPr>
          <a:xfrm>
            <a:off x="1258920" y="1487520"/>
            <a:ext cx="7661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一个数的平方等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这个数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3"/>
          <p:cNvSpPr/>
          <p:nvPr/>
        </p:nvSpPr>
        <p:spPr>
          <a:xfrm>
            <a:off x="2548080" y="1424160"/>
            <a:ext cx="312480" cy="555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1946160" y="1359000"/>
            <a:ext cx="2617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7"/>
          <p:cNvGrpSpPr/>
          <p:nvPr/>
        </p:nvGrpSpPr>
        <p:grpSpPr>
          <a:xfrm>
            <a:off x="2013120" y="2620800"/>
            <a:ext cx="4784400" cy="1617480"/>
            <a:chOff x="2013120" y="2620800"/>
            <a:chExt cx="4784400" cy="1617480"/>
          </a:xfrm>
        </p:grpSpPr>
        <p:sp>
          <p:nvSpPr>
            <p:cNvPr id="117" name="TextBox 15"/>
            <p:cNvSpPr/>
            <p:nvPr/>
          </p:nvSpPr>
          <p:spPr>
            <a:xfrm>
              <a:off x="2013120" y="2620800"/>
              <a:ext cx="4784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由于                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所以这个数是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或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对象 6153"/>
            <p:cNvGraphicFramePr/>
            <p:nvPr/>
          </p:nvGraphicFramePr>
          <p:xfrm>
            <a:off x="2660040" y="2910600"/>
            <a:ext cx="1257840" cy="495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9" name="对象 615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660040" y="2910600"/>
                      <a:ext cx="1257840" cy="49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" name="Rectangle 22"/>
          <p:cNvSpPr/>
          <p:nvPr/>
        </p:nvSpPr>
        <p:spPr>
          <a:xfrm>
            <a:off x="324000" y="44956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想一想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什么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2"/>
          <p:cNvSpPr/>
          <p:nvPr/>
        </p:nvSpPr>
        <p:spPr>
          <a:xfrm>
            <a:off x="466560" y="400536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想一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50920" y="549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上面的研究过程填表：</a:t>
            </a:r>
            <a:r>
              <a:rPr b="0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933480" y="272880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060560" y="285588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1187280" y="298296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314360" y="311004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441440" y="323676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971640" y="3392640"/>
            <a:ext cx="30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46160" y="1606680"/>
          <a:ext cx="7454880" cy="1957320"/>
        </p:xfrm>
        <a:graphic>
          <a:graphicData uri="http://schemas.openxmlformats.org/drawingml/2006/table">
            <a:tbl>
              <a:tblPr/>
              <a:tblGrid>
                <a:gridCol w="1243080"/>
                <a:gridCol w="1241280"/>
                <a:gridCol w="1243080"/>
                <a:gridCol w="1243080"/>
                <a:gridCol w="1241280"/>
                <a:gridCol w="1243080"/>
              </a:tblGrid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对象 7199"/>
          <p:cNvGraphicFramePr/>
          <p:nvPr/>
        </p:nvGraphicFramePr>
        <p:xfrm>
          <a:off x="1479600" y="1846440"/>
          <a:ext cx="507960" cy="56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对象 719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9600" y="1846440"/>
                    <a:ext cx="5079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对象 7200"/>
          <p:cNvGraphicFramePr/>
          <p:nvPr/>
        </p:nvGraphicFramePr>
        <p:xfrm>
          <a:off x="2849400" y="1976400"/>
          <a:ext cx="282600" cy="39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对象 720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9400" y="1976400"/>
                    <a:ext cx="2826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对象 7201"/>
          <p:cNvGraphicFramePr/>
          <p:nvPr/>
        </p:nvGraphicFramePr>
        <p:xfrm>
          <a:off x="3927600" y="1989000"/>
          <a:ext cx="436320" cy="4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对象 72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27600" y="1989000"/>
                    <a:ext cx="4363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对象 7202"/>
          <p:cNvGraphicFramePr/>
          <p:nvPr/>
        </p:nvGraphicFramePr>
        <p:xfrm>
          <a:off x="5149800" y="1976400"/>
          <a:ext cx="501840" cy="476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7" name="对象 720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49800" y="1976400"/>
                    <a:ext cx="501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对象 7203"/>
          <p:cNvGraphicFramePr/>
          <p:nvPr/>
        </p:nvGraphicFramePr>
        <p:xfrm>
          <a:off x="6354720" y="1946160"/>
          <a:ext cx="522360" cy="473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9" name="对象 720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54720" y="1946160"/>
                    <a:ext cx="522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对象 7204"/>
          <p:cNvGraphicFramePr/>
          <p:nvPr/>
        </p:nvGraphicFramePr>
        <p:xfrm>
          <a:off x="7597800" y="1774800"/>
          <a:ext cx="531720" cy="766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1" name="对象 720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97800" y="1774800"/>
                    <a:ext cx="5317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对象 7205"/>
          <p:cNvGraphicFramePr/>
          <p:nvPr/>
        </p:nvGraphicFramePr>
        <p:xfrm>
          <a:off x="1479600" y="2997360"/>
          <a:ext cx="365040" cy="422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3" name="对象 720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479600" y="2997360"/>
                    <a:ext cx="365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对象 7206"/>
          <p:cNvGraphicFramePr/>
          <p:nvPr/>
        </p:nvGraphicFramePr>
        <p:xfrm>
          <a:off x="2651040" y="2925720"/>
          <a:ext cx="581040" cy="384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5" name="对象 720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651040" y="2925720"/>
                    <a:ext cx="5810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对象 7207"/>
          <p:cNvGraphicFramePr/>
          <p:nvPr/>
        </p:nvGraphicFramePr>
        <p:xfrm>
          <a:off x="3844800" y="2898720"/>
          <a:ext cx="511200" cy="414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7" name="对象 720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44800" y="2898720"/>
                    <a:ext cx="511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对象 7208"/>
          <p:cNvGraphicFramePr/>
          <p:nvPr/>
        </p:nvGraphicFramePr>
        <p:xfrm>
          <a:off x="5121360" y="2925720"/>
          <a:ext cx="482400" cy="4287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9" name="对象 7208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121360" y="2925720"/>
                    <a:ext cx="482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对象 7209"/>
          <p:cNvGraphicFramePr/>
          <p:nvPr/>
        </p:nvGraphicFramePr>
        <p:xfrm>
          <a:off x="6372360" y="2917800"/>
          <a:ext cx="504720" cy="447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1" name="对象 7209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372360" y="2917800"/>
                    <a:ext cx="5047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对象 7210"/>
          <p:cNvGraphicFramePr/>
          <p:nvPr/>
        </p:nvGraphicFramePr>
        <p:xfrm>
          <a:off x="7667640" y="2781360"/>
          <a:ext cx="479520" cy="7524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53" name="对象 7210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667640" y="2781360"/>
                    <a:ext cx="4795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24"/>
          <p:cNvSpPr/>
          <p:nvPr/>
        </p:nvSpPr>
        <p:spPr>
          <a:xfrm>
            <a:off x="2773440" y="406548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8"/>
          <p:cNvSpPr/>
          <p:nvPr/>
        </p:nvSpPr>
        <p:spPr>
          <a:xfrm>
            <a:off x="1114560" y="4073400"/>
            <a:ext cx="82152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我们把               　                              分别叫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              的平方根，你能给出平方根的概念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对象 7213"/>
          <p:cNvGraphicFramePr/>
          <p:nvPr/>
        </p:nvGraphicFramePr>
        <p:xfrm>
          <a:off x="3924360" y="4005360"/>
          <a:ext cx="3168720" cy="8794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57" name="对象 7213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924360" y="4005360"/>
                    <a:ext cx="31687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对象 7214"/>
          <p:cNvGraphicFramePr/>
          <p:nvPr/>
        </p:nvGraphicFramePr>
        <p:xfrm>
          <a:off x="1403280" y="4724280"/>
          <a:ext cx="2303640" cy="8208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59" name="对象 7214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403280" y="4724280"/>
                    <a:ext cx="23036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Box 51"/>
          <p:cNvSpPr/>
          <p:nvPr/>
        </p:nvSpPr>
        <p:spPr>
          <a:xfrm>
            <a:off x="5716440" y="428616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724680" y="620640"/>
            <a:ext cx="16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平方根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"/>
          <p:cNvGrpSpPr/>
          <p:nvPr/>
        </p:nvGrpSpPr>
        <p:grpSpPr>
          <a:xfrm>
            <a:off x="539640" y="1268280"/>
            <a:ext cx="7486920" cy="1191240"/>
            <a:chOff x="539640" y="1268280"/>
            <a:chExt cx="7486920" cy="1191240"/>
          </a:xfrm>
        </p:grpSpPr>
        <p:sp>
          <p:nvSpPr>
            <p:cNvPr id="163" name="文本框 1"/>
            <p:cNvSpPr/>
            <p:nvPr/>
          </p:nvSpPr>
          <p:spPr>
            <a:xfrm>
              <a:off x="539640" y="1268280"/>
              <a:ext cx="7486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般地，如果一个数的平方等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那么这个数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平方根或二次方根．这就是说，如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那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平方根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4" name="对象 8196"/>
            <p:cNvGraphicFramePr/>
            <p:nvPr/>
          </p:nvGraphicFramePr>
          <p:xfrm>
            <a:off x="5868720" y="1917000"/>
            <a:ext cx="850680" cy="45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5" name="对象 819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68720" y="1917000"/>
                      <a:ext cx="850680" cy="45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6" name="组合 15"/>
          <p:cNvGrpSpPr/>
          <p:nvPr/>
        </p:nvGrpSpPr>
        <p:grpSpPr>
          <a:xfrm>
            <a:off x="716040" y="3429000"/>
            <a:ext cx="7796160" cy="1233360"/>
            <a:chOff x="716040" y="3429000"/>
            <a:chExt cx="7796160" cy="1233360"/>
          </a:xfrm>
        </p:grpSpPr>
        <p:sp>
          <p:nvSpPr>
            <p:cNvPr id="167" name="TextBox 9"/>
            <p:cNvSpPr/>
            <p:nvPr/>
          </p:nvSpPr>
          <p:spPr>
            <a:xfrm>
              <a:off x="1382040" y="3471120"/>
              <a:ext cx="713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由于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≥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≥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所以我们在求一个数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的平方根时，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≥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是一个隐含条件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组合 38"/>
            <p:cNvGrpSpPr/>
            <p:nvPr/>
          </p:nvGrpSpPr>
          <p:grpSpPr>
            <a:xfrm>
              <a:off x="716040" y="3429000"/>
              <a:ext cx="649080" cy="649080"/>
              <a:chOff x="716040" y="3429000"/>
              <a:chExt cx="649080" cy="649080"/>
            </a:xfrm>
          </p:grpSpPr>
          <p:grpSp>
            <p:nvGrpSpPr>
              <p:cNvPr id="169" name="组合 35"/>
              <p:cNvGrpSpPr/>
              <p:nvPr/>
            </p:nvGrpSpPr>
            <p:grpSpPr>
              <a:xfrm>
                <a:off x="716040" y="3429000"/>
                <a:ext cx="649080" cy="649080"/>
                <a:chOff x="716040" y="3429000"/>
                <a:chExt cx="649080" cy="649080"/>
              </a:xfrm>
            </p:grpSpPr>
            <p:sp>
              <p:nvSpPr>
                <p:cNvPr id="170" name="椭圆 33"/>
                <p:cNvSpPr/>
                <p:nvPr/>
              </p:nvSpPr>
              <p:spPr>
                <a:xfrm>
                  <a:off x="716040" y="3429000"/>
                  <a:ext cx="649080" cy="649080"/>
                </a:xfrm>
                <a:prstGeom prst="ellipse">
                  <a:avLst/>
                </a:prstGeom>
                <a:solidFill>
                  <a:srgbClr val="eb2a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椭圆 34"/>
                <p:cNvSpPr/>
                <p:nvPr/>
              </p:nvSpPr>
              <p:spPr>
                <a:xfrm>
                  <a:off x="788040" y="3429000"/>
                  <a:ext cx="505080" cy="505080"/>
                </a:xfrm>
                <a:prstGeom prst="ellipse">
                  <a:avLst/>
                </a:prstGeom>
                <a:solidFill>
                  <a:srgbClr val="ffcc0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Box 37"/>
              <p:cNvSpPr/>
              <p:nvPr/>
            </p:nvSpPr>
            <p:spPr>
              <a:xfrm>
                <a:off x="790560" y="35010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2060"/>
                    </a:solidFill>
                    <a:latin typeface="微软雅黑"/>
                    <a:ea typeface="微软雅黑"/>
                  </a:rPr>
                  <a:t>注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31"/>
          <p:cNvSpPr/>
          <p:nvPr/>
        </p:nvSpPr>
        <p:spPr>
          <a:xfrm>
            <a:off x="357120" y="7142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察与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"/>
          <p:cNvSpPr/>
          <p:nvPr/>
        </p:nvSpPr>
        <p:spPr>
          <a:xfrm>
            <a:off x="2518560" y="126828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各数有平方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"/>
          <p:cNvSpPr/>
          <p:nvPr/>
        </p:nvSpPr>
        <p:spPr>
          <a:xfrm>
            <a:off x="1591200" y="2133720"/>
            <a:ext cx="53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⑵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⑶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0001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8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对象 3"/>
          <p:cNvGraphicFramePr/>
          <p:nvPr/>
        </p:nvGraphicFramePr>
        <p:xfrm>
          <a:off x="3276720" y="2133720"/>
          <a:ext cx="47628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对象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2133720"/>
                    <a:ext cx="4762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22"/>
          <p:cNvSpPr/>
          <p:nvPr/>
        </p:nvSpPr>
        <p:spPr>
          <a:xfrm>
            <a:off x="539640" y="1341360"/>
            <a:ext cx="12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想一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6"/>
          <p:cNvGrpSpPr/>
          <p:nvPr/>
        </p:nvGrpSpPr>
        <p:grpSpPr>
          <a:xfrm>
            <a:off x="755640" y="3284640"/>
            <a:ext cx="7950240" cy="1245600"/>
            <a:chOff x="755640" y="3284640"/>
            <a:chExt cx="7950240" cy="1245600"/>
          </a:xfrm>
        </p:grpSpPr>
        <p:sp>
          <p:nvSpPr>
            <p:cNvPr id="180" name="文本框 4"/>
            <p:cNvSpPr/>
            <p:nvPr/>
          </p:nvSpPr>
          <p:spPr>
            <a:xfrm>
              <a:off x="755640" y="3284640"/>
              <a:ext cx="795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因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且任何不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数的平方都不等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所以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的平方根只有一个</a:t>
              </a: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，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它就是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本身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即：</a:t>
              </a: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Object 6" descr=""/>
            <p:cNvPicPr/>
            <p:nvPr/>
          </p:nvPicPr>
          <p:blipFill>
            <a:blip r:embed="rId4"/>
            <a:stretch/>
          </p:blipFill>
          <p:spPr>
            <a:xfrm>
              <a:off x="5147640" y="3932280"/>
              <a:ext cx="1063440" cy="59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文本框 5"/>
          <p:cNvSpPr/>
          <p:nvPr/>
        </p:nvSpPr>
        <p:spPr>
          <a:xfrm>
            <a:off x="755640" y="4581360"/>
            <a:ext cx="80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负数有平方根吗？因为正、负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都不是负数，所以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负数没有平方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8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无意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6"/>
          <p:cNvSpPr/>
          <p:nvPr/>
        </p:nvSpPr>
        <p:spPr>
          <a:xfrm>
            <a:off x="831600" y="1195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平方根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"/>
          <p:cNvSpPr/>
          <p:nvPr/>
        </p:nvSpPr>
        <p:spPr>
          <a:xfrm>
            <a:off x="466560" y="1987560"/>
            <a:ext cx="77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一个正数有两个平方根，它们互为相反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"/>
          <p:cNvSpPr/>
          <p:nvPr/>
        </p:nvSpPr>
        <p:spPr>
          <a:xfrm>
            <a:off x="466560" y="2708280"/>
            <a:ext cx="77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只有两平方根，是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本身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"/>
          <p:cNvSpPr/>
          <p:nvPr/>
        </p:nvSpPr>
        <p:spPr>
          <a:xfrm>
            <a:off x="539640" y="3571920"/>
            <a:ext cx="77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负数没有平方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